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BFC-C60B-4962-8B59-4742BF83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1F4-BA4E-4374-A57F-60178742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DF2-DFAF-4952-A868-4BE7B2C8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066-369D-4610-B436-F18A5090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A26D-7F77-4C79-93A8-0F5EFC70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4375-E72A-454A-970C-3A32755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509D-0026-406A-A21B-B7C86FF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AA6D-3319-452F-8055-1231456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9105-1DE3-4244-A295-9096F31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8873-416F-4CE2-9183-8F455D51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3D0B-6E6F-4623-8698-8172697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D18-83C3-4EEA-BD97-0B994FB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F654-E19A-40C8-9DF4-A8C6D8C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AEA6-6802-4D39-A1EB-F938F38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EA6D-2647-4B34-85DC-668BDCF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47D-7DD9-4529-BEB0-95DCC609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E9B-C980-4DED-B380-D64033CB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DC9-263B-4A61-B216-C63D7FF5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5D6-C21E-428E-83B7-2F4D217F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C48-CA85-408D-8276-E15BC803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CC1-8330-4FCA-9512-9722DE0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3B5-FB2D-4BF9-944C-8B9D56E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B7F-9DC8-416B-A06D-C4E7D0C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E7A-8B0B-46C5-AE41-105EE5E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E5B73F-D719-4F1A-9EFC-E93A5B16CF4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5CECB4-9F32-4490-B943-68590653EF4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Projectos em Animação Sociocultu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848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71680" y="2143080"/>
            <a:ext cx="8001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lidades soci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inalidades sociais, valores dominantes, estados de opinião que fundamentam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terri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aracterísticas do ambiente territorial (bairro, cidade, região, país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dos demográficos, económicos, sociais com interesse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âmbito territoria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ntre o território e a finalidade d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sector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scrição geral do âmbito de intervenção do projecto (infância, juventude, terceira idade, etc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spectos gerais do âmbito da intervenção que têm importância  para o project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ção do projecto no sector de incidênci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íticas sociais, educativas e cultura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olíticas dos diferentes agentes relacionadas com os conteúdos e objectivos do projecto; orientações gerais e modelos predominantes; competências das diferentes administrações públ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lações e papel do projecto com as polí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Bases contextuais do projecto (Sempere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cessidades e pedidos problemátic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studo das necessidades sociais e culturais a que o projecto pretende dar respost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agnóstico sobre a problemática a intervir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ipos e níveis de procura social em que o projecto se base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jectória e objectivos passad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istória, experiência anterior, actividades realizadas, imagem e prestígio, implantação territorial, relações institucionai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utura form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ma jurídica, estrutura, organigrama, pessoas, funções, capacidades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interna da organização que assume o proj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ncionamento inter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uncionamento da organização em termos de comunicação, tomada de decisões, gestão e coordenação, sistemas de planificação e control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ursos disponívei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isponibilidade de recursos humanos (sua qualificação e experiência), económicos e financeiros, infra-estruturais, de coordenação, de informação e conhecimento, de comunicação, etc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ros elementos internos a ter em con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Importância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"Quanto melhor conhecermos um território, melhor seremos capazes de realizar um projecto de desenvolvimento bem adaptado. Uma boa identificação dos pontos fortes e fracos da zona (trunfos, vectores de inovação, principais carências, "trancas" ao desenvolvimento, etc.) vai facilitar a construção de uma dinâmica de desenvolvimento duradouro. Este conhecimento vai também permitir uma melhor avaliação dos efeitos do processo de desenvolvimento em curso" (Campagn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t al,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1994: 1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tendências de fundo observáveis no espaço de intervenção no que diz respeito à demografia, economia, alojamento, vida social e cultural, etc.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s demográficas e sociais (idade, sexo e distribuição física da população; taxas de dependência, escolaridade; taxas de nascimento e de mortalidade; emigração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conomia local (estrutura de produção e emprego/desemprego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fra-estruturas físicas e sociais (transportes, telecomunicações, alojamento, de saneamento e saúde pública, hospitais, instituições de ensino, facilidades recreativas e culturais, etc.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categorias da população mais atingidas pelos problemas sociais, económicos e cultura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iniciativas e os projectos que sejam desde já portadores de inov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"obstáculos" que é preciso ultrapassar e, consequentemente, as acções que será necessário realizar nos domínios social, económico, cultur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diagnóstico deve indicar claramente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envolvente institucional (os organismos intervenientes formal e informalmente constituído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recursos (internos e externos) que será necessário mobilizar para as diferentes acçõ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forças e as fraquezas do conjunto e das diferentes zonas do espaço de interven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imação sociocultural (e o seu planeamento) foram conceptualizados a partir da prática ou a partir duma reflexão centrada na acção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intervenção sociocultural, muito centrada na acção e intervenção activista, descurou, de alguma forma, a programação e planificação prévi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 diagnóstico de um território visa estabelecer o que é preciso saber para agir sobre o espaço de intervenção e reunir as informações necessárias para esse fi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m-se os problemas (assume-se que há necessidades e aspectos a melhorar na realidade sociocultural pelo project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isa-se a evolução prognóstica dos problemas, prevendo-se as repercussões que eles possam vir a ter (Cristovão e Silva, 200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 que se faz (etapas) n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causas dos problemas, os factores de risco associados e as inter-relações que existem entre eles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am-se as necessidades reais ou sentidas pelos grupos alv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é-diagnóstico (fase exploratória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agnóstico (recolha e análise da informação)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abelecimento de prioridades para a intervenção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ser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larg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aprofund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ci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rápi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ficientemente clar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ts val="1998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responder às necessidades do próprio processo de planea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aracterísticas do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ve ter como requisitos importantes (Cristovão e Silva, 2003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88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scrição preferencialmente quantitativa da situ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conhecimento dos factores que a determina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nálise da sua evolução e perspectiv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avaliação — se é ou não satisfató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mo operacionalizar o diagnóstico (Campagne </a:t>
            </a:r>
            <a:r>
              <a:rPr b="0" i="1" lang="en-GB" sz="20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. (199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r o que é preciso saber para agir sobre uma realidade sociocultur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cidir quais são as metodologias mais bem adaptadas para reunir as informações correspondent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Realizar o processo concreto de recolha da informa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fectuar um tratamento e análise dos dados recolhid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raduzir estas conclusões – ou seja o diagnóstico - em componentes básicas de uma estratégia de interven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orquê 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tirar pleno partido dos conhecimentos, competências, dinâmicas e recursos existentes a nível loc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obter a adesão e o apoio dos actores locais nos esforços conduzidos para a abordagem dos problemas essenciais e soluções possívei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encorajar a "apropriação" local dos projectos de modo a que o desenvolvimento possa ser duradour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Quem deve ser incluído no diagnóstico participado (Cristovão e Silva, 2003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grupos específicos a envolver são determinados pelo contexto social e cultural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responsáveis políticos, económicos e associativos locais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membros dos grupos de interesses económicos, sociais e culturais locais: associações de agricultores, de jovens, de idosos, grupos profissionai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no seu conjunto: no trabalho, em casa, na aldeia, no bairro, etc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ocu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quéritos por question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quisa de Consens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Brainstorming (produção de ideias, sem crítica e avaliação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grupo nominal (agregar julgamentos com base na racionalidade/criatividade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écnica de Delphi (consenso sobre um tópico, conduzido através de via postal)</a:t>
            </a:r>
            <a:r>
              <a:rPr b="0" lang="ar-SA" sz="1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roximação a informantes-chave (entrevista pessoal a experts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Técnicas quantitativas e qualitativas de diagnóstic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roblem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o grupo al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parcer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de enquadramento institu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SW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rna-se necessário conciliar a resposta pontual e próxima com a programação e planificação, que permita trabalhar com uma determinada perspectiva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preciso encontrar alguns referentes que permitam edificar uma metodologia de elaboração de projectos de animação sociocultural (Sempere, 200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ra facilitar a compreensão e a utilização da informação obtida, ela pode organizar-se na matriz SWO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É uma técnica sintetizadora e simplificadora do diagnóstic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a análise SWOT (strenghts, weaknesses, opportunities and threats) explicitam-se quais os pontos fortes e fracos duma realidade social específica e as oportunidades e ameaças do meio envolvente a essa re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oportunidades e os pontos fortes correspondem aos aspectos positivos da realidade a melhor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s ameaças e os pontos fracos correspondem aos aspectos negativos da realidade a melhorar (constrangimentos políticos e sociais, deficiências estruturais e na dotação de recursos, etc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e de juízos de valor por parte do analista, que representa mais ou menos explicitamente os interesses específicos locais e/ou extra-locai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ângulo 3"/>
          <p:cNvSpPr/>
          <p:nvPr/>
        </p:nvSpPr>
        <p:spPr>
          <a:xfrm>
            <a:off x="928800" y="2714760"/>
            <a:ext cx="7215120" cy="32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ângulo 4"/>
          <p:cNvSpPr/>
          <p:nvPr/>
        </p:nvSpPr>
        <p:spPr>
          <a:xfrm>
            <a:off x="178596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Stren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ângulo 7"/>
          <p:cNvSpPr/>
          <p:nvPr/>
        </p:nvSpPr>
        <p:spPr>
          <a:xfrm>
            <a:off x="4857840" y="335772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Weakn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ângulo 8"/>
          <p:cNvSpPr/>
          <p:nvPr/>
        </p:nvSpPr>
        <p:spPr>
          <a:xfrm>
            <a:off x="5214960" y="2857680"/>
            <a:ext cx="2214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neg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ângulo 9"/>
          <p:cNvSpPr/>
          <p:nvPr/>
        </p:nvSpPr>
        <p:spPr>
          <a:xfrm>
            <a:off x="2143080" y="2857680"/>
            <a:ext cx="2143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spectos posi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ângulo 10"/>
          <p:cNvSpPr/>
          <p:nvPr/>
        </p:nvSpPr>
        <p:spPr>
          <a:xfrm>
            <a:off x="178596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Opportun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ângulo 11"/>
          <p:cNvSpPr/>
          <p:nvPr/>
        </p:nvSpPr>
        <p:spPr>
          <a:xfrm>
            <a:off x="4857840" y="46432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Thr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ângulo 12"/>
          <p:cNvSpPr/>
          <p:nvPr/>
        </p:nvSpPr>
        <p:spPr>
          <a:xfrm rot="16200000">
            <a:off x="857160" y="3714840"/>
            <a:ext cx="9288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ângulo 13"/>
          <p:cNvSpPr/>
          <p:nvPr/>
        </p:nvSpPr>
        <p:spPr>
          <a:xfrm rot="16200000">
            <a:off x="821160" y="4964400"/>
            <a:ext cx="10004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atisfatório de equipamentos para a prática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municipal de apoio ao fomento da actividade despor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jove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bundância de recursos hídric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celho atractivo em termos culturais e de laz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4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46640" indent="-56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Força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ctividades económicas com forte probabilidade de expans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sponibilidade por parte do município em garantir a rede de transportes fora do horários do período escol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nâmica já existente do apoio domiciliár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razoável de colectividades no concelho, particularmente direccionadas para a actividade desportiva das camadas mais joven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xistência de fundos nacionais disponíveis para apoio a projectos de qualificação em novas tecnolog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favorável ao fo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do INH para recuperação e construção habitacion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Potencialidade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centivo ao Arrendamento Jovem (IA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lano Regional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Agro-Agris, Ruris; Leader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ogramas nacionais de apoio à Educação e Formação ao longo da vida para adult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úmero significativo de habitações degradad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 espírito empresar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pulação pouco qualificad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a taxa de nata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endência física, psicológica e financeira da população idos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Elevado desemprego feminin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Debilidades (elementos inter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nexistência de Centros de No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poio Domiciliário adequado aos vários níveis de dependênci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iciativa por parte da quase totalidade das associações do concelh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actividades para os jovens e idos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usência de respostas para desempregados e potenciais desempregad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iminuição de fundos disponíveis para apoio a projectos de inclusão soci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gislação restritiva sobre contratação de pesso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ntagens de localização para empresas oferecidas por municípios adjac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juntura económico-social desfavoráve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lítica de Imigração pouco favorável à integração de estrangeir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á possível estabelecer uma metodologia própria (Sempere, 2004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s campos de acção, os destinatários, os territórios, as organizações são muito diversa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características individuais e grupais dos recursos humanos dum projecto, nos seus diferentes níveis, têm um peso significativo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 diferentes características das organizações (forma jurídica, finalidade social, etc.) condicionam os elementos de constituição duma metodologia e uma forma específica de concretizar as acçõe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 Exemplos de Ameaças (elementos exógeno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Incentivos Fiscais ou à Criação de Empreg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alta de medidas nacionais de incentivo ao desenvolvimento do associativism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Fracos apoios à fixação de empresas no interio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apacidade de atracção de população activa local pelo litoral e grandes centros urbanos (Santos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7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200016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r vezes, um facto ou fenómeno social pode ter, simultaneamente, aspectos positivos e aspectos negativos (dualismo estrutur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ma infra-estrutura como uma auto-estrada origina efeitos positivos e negativos, normalment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Matriz de análise SW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SWOT não deve ser preenchida de forma aleatória; deve-se começar pelo quadrante das fraquezas, seguindo-se o quadrante das forças, das oportunidades e das ameaç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s quadrantes não devem ser preenchidos apenas como listagens de informações sem relação directa; a cada ponto fraco deve-se associar um ou mais pontos fortes que o enfrentem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 pode-se também ter a mesma força ligada a mais do que uma fraquez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presentação da situação do projec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stão central e ideia original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cação de todos os problemas individu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Validação ou hierarquização dos problemas expost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grupamentos dos problemas por áreas problemátic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Identificação das relações causa-efeito entre esses problem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sulta uma listagem completa dos problemas relevantes e a sua hierarquização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lacionar os problemas uns com os outros e organizá-los em grupos apropriados com titulações específic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É uma representação gráfica da relação de causalidade entre situações a melhorar, problemas e necessidades encontradas, de forma a que seja possível perceber o impacto da resolução de determinadas situações problemáticas noutras situações problemáticas (Pena, 2002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ter uma listagem o mais exaustiva possível de situações a melhorar/problemas do sistema em que a intervenção vai decorr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nvolver os detentores de conhecimento sobre essa realidade, maximizar a participação e o envolvimento no levantamento de problemas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 é toda a situação actual da qual se perspectiva uma situação desejada, uma melhoria possível” (Pena, 2002: 10); são todas as situações que não estão como o desejado pelos elementos do campo de intervençã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ferramentas a usar envolvem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formais e estruturadas “brainstorming”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utras reuniõe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reuniões informai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estruturada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entrevistas informais  e inquéritos (Pena, 2002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levantados de forma exaustiva devem ser filtrados antes de ser incluídos na listagem: relativizar e suprimir os que não têm significado real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concretos e reais e não relacionados com juízos de valor, suposições ou personalizações da realidade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êm de ser sustentados e ter relevância e impacto (Pena, 200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Levantamento e organização dos problemas em clusters ou “nuven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formulados pela negativa (Pena, 2002); por exemplo, excesso de desemprego é melhor do que apenas desemprego; há sempre desemprego; o problema é se ele é considerado, em termos comparativos, excessivo ou n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devem ser enunciados de forma sintética evitando situações como: a formulação de dois problemas numa só formulação ou a formulação do problema com a medida já incluída (Pena, 2002); por exemplo, excesso de erros na utilização duma máquina por falta de formação; o melhor é retirar da formulação por falta de form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trução de árvores de problem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ção do problema central em cada uma dos clusters de problemas (tronco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ganização dos restantes problemas da nuvem em relação ao problema central; saber se são causas ou efeitos do problema central (raízes e ramos da árvore de problemas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que estão na parte superior da árvore resultam directamente dos que estão imediatamente abaixo; resolvendo os problemas abaixo podemos esperar um impacto na resolução dos que estão acim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elaboração de projectos está condicionada pelos seguintes nívei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Pessoal-Profissional (contribuições individuais das pessoas e características diferenciadas dos profissionai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rupal-Equipa (aspectos criativos e ideológicos, critérios e características da equipa)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stitucional-Organizacional (cultura organizativa, opções e objectivos das organizações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ormal-Legal (adequação às normas administrativas e às formas jurídica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ângulo 4"/>
          <p:cNvSpPr/>
          <p:nvPr/>
        </p:nvSpPr>
        <p:spPr>
          <a:xfrm>
            <a:off x="1785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ângulo 9"/>
          <p:cNvSpPr/>
          <p:nvPr/>
        </p:nvSpPr>
        <p:spPr>
          <a:xfrm>
            <a:off x="7072200" y="2357280"/>
            <a:ext cx="9288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Efe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ângulo 13"/>
          <p:cNvSpPr/>
          <p:nvPr/>
        </p:nvSpPr>
        <p:spPr>
          <a:xfrm>
            <a:off x="500040" y="4572000"/>
            <a:ext cx="1000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Cau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3857760" y="3786120"/>
            <a:ext cx="192852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ângulo 15"/>
          <p:cNvSpPr/>
          <p:nvPr/>
        </p:nvSpPr>
        <p:spPr>
          <a:xfrm>
            <a:off x="478620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ângulo 17"/>
          <p:cNvSpPr/>
          <p:nvPr/>
        </p:nvSpPr>
        <p:spPr>
          <a:xfrm>
            <a:off x="635796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ângulo 18"/>
          <p:cNvSpPr/>
          <p:nvPr/>
        </p:nvSpPr>
        <p:spPr>
          <a:xfrm>
            <a:off x="4786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ângulo 19"/>
          <p:cNvSpPr/>
          <p:nvPr/>
        </p:nvSpPr>
        <p:spPr>
          <a:xfrm>
            <a:off x="142884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Conexão recta unidireccional 21"/>
          <p:cNvCxnSpPr/>
          <p:nvPr/>
        </p:nvCxnSpPr>
        <p:spPr>
          <a:xfrm flipH="1" flipV="1">
            <a:off x="3214800" y="364284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Conexão recta unidireccional 22"/>
          <p:cNvCxnSpPr/>
          <p:nvPr/>
        </p:nvCxnSpPr>
        <p:spPr>
          <a:xfrm flipV="1">
            <a:off x="5929200" y="3857040"/>
            <a:ext cx="5724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Conexão recta unidireccional 24"/>
          <p:cNvCxnSpPr/>
          <p:nvPr/>
        </p:nvCxnSpPr>
        <p:spPr>
          <a:xfrm flipV="1">
            <a:off x="5643720" y="378540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Conexão recta unidireccional 26"/>
          <p:cNvCxnSpPr/>
          <p:nvPr/>
        </p:nvCxnSpPr>
        <p:spPr>
          <a:xfrm flipV="1">
            <a:off x="3214800" y="3071160"/>
            <a:ext cx="3578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Conexão recta unidireccional 28"/>
          <p:cNvCxnSpPr/>
          <p:nvPr/>
        </p:nvCxnSpPr>
        <p:spPr>
          <a:xfrm flipV="1">
            <a:off x="249876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exão recta unidireccional 33"/>
          <p:cNvCxnSpPr/>
          <p:nvPr/>
        </p:nvCxnSpPr>
        <p:spPr>
          <a:xfrm flipV="1">
            <a:off x="5357880" y="2999880"/>
            <a:ext cx="21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ângulo 34"/>
          <p:cNvSpPr/>
          <p:nvPr/>
        </p:nvSpPr>
        <p:spPr>
          <a:xfrm>
            <a:off x="1928880" y="4500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ângulo 35"/>
          <p:cNvSpPr/>
          <p:nvPr/>
        </p:nvSpPr>
        <p:spPr>
          <a:xfrm>
            <a:off x="5643720" y="450072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ângulo 36"/>
          <p:cNvSpPr/>
          <p:nvPr/>
        </p:nvSpPr>
        <p:spPr>
          <a:xfrm>
            <a:off x="7142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ângulo 37"/>
          <p:cNvSpPr/>
          <p:nvPr/>
        </p:nvSpPr>
        <p:spPr>
          <a:xfrm>
            <a:off x="214308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ângulo 38"/>
          <p:cNvSpPr/>
          <p:nvPr/>
        </p:nvSpPr>
        <p:spPr>
          <a:xfrm>
            <a:off x="4500720" y="171468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exão recta unidireccional 40"/>
          <p:cNvCxnSpPr/>
          <p:nvPr/>
        </p:nvCxnSpPr>
        <p:spPr>
          <a:xfrm flipV="1">
            <a:off x="5285160" y="221400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Rectângulo 41"/>
          <p:cNvSpPr/>
          <p:nvPr/>
        </p:nvSpPr>
        <p:spPr>
          <a:xfrm>
            <a:off x="3714840" y="53578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ângulo 42"/>
          <p:cNvSpPr/>
          <p:nvPr/>
        </p:nvSpPr>
        <p:spPr>
          <a:xfrm>
            <a:off x="6000840" y="514368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ângulo 43"/>
          <p:cNvSpPr/>
          <p:nvPr/>
        </p:nvSpPr>
        <p:spPr>
          <a:xfrm>
            <a:off x="6786720" y="571500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Conexão recta unidireccional 53"/>
          <p:cNvCxnSpPr/>
          <p:nvPr/>
        </p:nvCxnSpPr>
        <p:spPr>
          <a:xfrm flipV="1">
            <a:off x="3285720" y="4214520"/>
            <a:ext cx="500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Conexão recta unidireccional 58"/>
          <p:cNvCxnSpPr/>
          <p:nvPr/>
        </p:nvCxnSpPr>
        <p:spPr>
          <a:xfrm flipH="1" flipV="1">
            <a:off x="5785560" y="428544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Conexão recta unidireccional 60"/>
          <p:cNvCxnSpPr/>
          <p:nvPr/>
        </p:nvCxnSpPr>
        <p:spPr>
          <a:xfrm flipH="1" flipV="1">
            <a:off x="7000200" y="4928400"/>
            <a:ext cx="143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Conexão recta unidireccional 61"/>
          <p:cNvCxnSpPr/>
          <p:nvPr/>
        </p:nvCxnSpPr>
        <p:spPr>
          <a:xfrm flipH="1" flipV="1">
            <a:off x="7429320" y="5500080"/>
            <a:ext cx="143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Conexão recta unidireccional 62"/>
          <p:cNvCxnSpPr/>
          <p:nvPr/>
        </p:nvCxnSpPr>
        <p:spPr>
          <a:xfrm flipH="1" flipV="1">
            <a:off x="3357000" y="4785480"/>
            <a:ext cx="57204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onexão recta unidireccional 64"/>
          <p:cNvCxnSpPr/>
          <p:nvPr/>
        </p:nvCxnSpPr>
        <p:spPr>
          <a:xfrm flipV="1">
            <a:off x="2711880" y="50018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onexão recta unidireccional 66"/>
          <p:cNvCxnSpPr/>
          <p:nvPr/>
        </p:nvCxnSpPr>
        <p:spPr>
          <a:xfrm flipV="1">
            <a:off x="1643040" y="5000040"/>
            <a:ext cx="35784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ângulo 4"/>
          <p:cNvSpPr/>
          <p:nvPr/>
        </p:nvSpPr>
        <p:spPr>
          <a:xfrm>
            <a:off x="142884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572000" y="1857240"/>
            <a:ext cx="1928880" cy="7858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blema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Conexão recta unidireccional 33"/>
          <p:cNvCxnSpPr/>
          <p:nvPr/>
        </p:nvCxnSpPr>
        <p:spPr>
          <a:xfrm flipH="1" flipV="1">
            <a:off x="5357520" y="2714040"/>
            <a:ext cx="7149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Rectângulo 34"/>
          <p:cNvSpPr/>
          <p:nvPr/>
        </p:nvSpPr>
        <p:spPr>
          <a:xfrm>
            <a:off x="192888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ângulo 36"/>
          <p:cNvSpPr/>
          <p:nvPr/>
        </p:nvSpPr>
        <p:spPr>
          <a:xfrm>
            <a:off x="35712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ângulo 37"/>
          <p:cNvSpPr/>
          <p:nvPr/>
        </p:nvSpPr>
        <p:spPr>
          <a:xfrm>
            <a:off x="1785960" y="507204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Rectângulo 44"/>
          <p:cNvSpPr/>
          <p:nvPr/>
        </p:nvSpPr>
        <p:spPr>
          <a:xfrm>
            <a:off x="3071880" y="335772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Rectângulo 46"/>
          <p:cNvSpPr/>
          <p:nvPr/>
        </p:nvSpPr>
        <p:spPr>
          <a:xfrm>
            <a:off x="42876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Conexão recta unidireccional 66"/>
          <p:cNvCxnSpPr/>
          <p:nvPr/>
        </p:nvCxnSpPr>
        <p:spPr>
          <a:xfrm flipV="1">
            <a:off x="928800" y="37144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em destaque um problema que resulta da existência de todos os outros (problema centr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, entre os restantes problemas, os que contribuem directamente para a existência do problema central (os que estão no nível imediatamente abaixo – de primeir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os problemas que contribuem directamente para a existência dos problemas do primeiro nível (problemas de segundo níve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 e colocar todos os problemas que contribuem directamente para os já colocados, até esgotar todos os problemas da lis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problemas terminais são aqueles que não têm nenhum problema a contribuir para a sua existência; são os que resolvidos e atenuados contribuem para a resolução dos que estão nos níveis acim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ode haver problemas que não constam da lista inicial, mas  que ligam a árvore e que devem ser acrescen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/diagnóstico de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construir a árvore de problem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bifurcações devem existir no sentido descendente e nunca no sentido ascendente (no caso de haver uma situação problemática a contribuir para a existência de dois problemas, essa contribuição deve ser reduzida a uma relação causa-efeito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Ter apenas um problema a contribuir para a existência dum outro problema é uma situação que requer uma análise mais aprofundada (podem ter-se formulado falsos problemas, pode haver problemas que não foram considerados na lista inicial, pode haver duas formulações distintas do mesmo problem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parecer um grande número de problemas a contribuir para a existência dum só (pode haver problemas que não sejam importantes e que possam ser retirad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proble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ficiente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rviço prestado aquém do possí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aix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lta de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ângulo 36"/>
          <p:cNvSpPr/>
          <p:nvPr/>
        </p:nvSpPr>
        <p:spPr>
          <a:xfrm>
            <a:off x="35712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iculdade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arências n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d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1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Rectângulo 46"/>
          <p:cNvSpPr/>
          <p:nvPr/>
        </p:nvSpPr>
        <p:spPr>
          <a:xfrm>
            <a:off x="42876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á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essoa ou grupo que possui relações com o projecto ou é afectado por ele – grupos alvo, organizações parceiras, entidades financiadoras, etc.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preciação preliminar ex-ante por parte do promotor do projecto e da equipa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curar, de forma participada, quais os stakeholders relevantes e envolvê-los no processo de planeamen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s suas perspectivas devem ser cuidadosamente consideradas  na formulação preliminar dos objectivos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ve ser um sumário, para cada um dos stakeholders identific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maior ou menor interesse na concretizaçã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contributo (positivo ou negativo) prováve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a sua importância para o sucesso d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 seu grau de influência no project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os efeitos prováveis do projecto para os seus interes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stakehold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siste na apreciação de quem será afectado pelo projecto e de que forma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hecer os processos de tomada de decisão d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terminar a estratégia de participação e envolvimento dos stakeholders no processo de planeamento e avaliação – plano de comunicação com os stakeholder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partilha de informação até à sua capacitação e emancipaçã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sde a realização de reuniões de informação, passando por sessões de trabalho e workshops e até à publicação de boletins, newsletter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2658960"/>
          <a:ext cx="7858080" cy="320040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  <a:gridCol w="157176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pos de stakehold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esses em j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ito do projecto sobre os seus interess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mportância para 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influência no proj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    +   0   -   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4   3   2   1  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311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+ a – (muito significativo a muito pouco significativo); 5 a D (muito importante/ grande influência a desconhecid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existe uma metodologia própria aplicável, em termos gerais, a todos os campos e possibilidades da animação sociocultural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á, porém, esforços de sistematização (linhas argumentais de elaboraçã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s profissionais, as equipas e as organizações têm de edificar as suas próprias formas de acção e de decidir quais as opções metodológicas a tomar (Sempere, 200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Matriz de análise de stakeholders</a:t>
            </a:r>
            <a:r>
              <a:rPr b="0" lang="en-GB" sz="1800" spc="-1" strike="noStrike">
                <a:solidFill>
                  <a:srgbClr val="00664d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ângulo 6"/>
          <p:cNvSpPr/>
          <p:nvPr/>
        </p:nvSpPr>
        <p:spPr>
          <a:xfrm>
            <a:off x="642960" y="5929200"/>
            <a:ext cx="785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inserir os stakeholders nas células apropriada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57160" y="2786040"/>
          <a:ext cx="7215120" cy="2854440"/>
        </p:xfrm>
        <a:graphic>
          <a:graphicData uri="http://schemas.openxmlformats.org/drawingml/2006/table">
            <a:tbl>
              <a:tblPr/>
              <a:tblGrid>
                <a:gridCol w="1836720"/>
                <a:gridCol w="1235160"/>
                <a:gridCol w="1257480"/>
                <a:gridCol w="1442880"/>
                <a:gridCol w="14428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o projecto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po de participação e envolvi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ilha de inform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aboração (partilh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pacitação (transferência do control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am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ção e monitor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ali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os grupos alvo percepcionam os seus problemas, que mudanças desejam e o seu raio de ac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mo é que a estratégia pensada para o projecto se adequa às necessidades sentidas e aos pontos fortes dos grupos alv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diferenças sociais dentro da população e o grau de variação da capacidade dos diferentes grupos sociais para avança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e grupos alv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necessária em especial em projectos de intervenção social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as percepções do grupo alvo e as suas atitudes face aos outros stakehold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ais os riscos e impactes duma estratégia ou ideia de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Todos os projectos têm um ambiente institucional que os envolve; há outras organizações que trabalham na mesma área de intervenção, que têm um impacte no projecto e que são afectados por este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iste num número de semi-círculos concêntricos (níveis), começando com a unidade de análise mais pequena no centr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 ser realizada com o modelo do “arco-íris”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luem-se depois as unidades (instituições e grupos relevantes), atendendo à sua proximidade geográfica do grupo alvo; são colocadas nos semi-círculos apropriados para mostrar essa maior ou menor proxim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modelo mostra ainda a posição da organização/unidade de análise em relação às instituições estatais e privadas; estas são separadas e colocadas em cada um dos lados dos semi-círculos (Estado no lado esquerdo e privados no lado direito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nálise do enquadramento institu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pois de construída a estrutura e localizadas as organizações analisam-se as ligações que existem entre elas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dentificam-se os fluxos de recursos, informação e autor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comunica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troca informações com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dá directrizes a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Quem oferece/recebe recursos e de quem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9640" y="1714680"/>
            <a:ext cx="8001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Conteúdos, Orientação e Objectivos do Proj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nteúdos e descri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e títul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finição geral e fin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teúdos e acções principais, complementares  e derivadas a realizar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squema ger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rientação e âmbito conceptu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ferentes teóricos relacionados com o conteúdo do projecto; investigações e estudos de referênci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rientação e critérios pedagógicos, sociais, culturais, psicológicos, etc.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cidência de âmbito conceptual em aspectos metodológicos e organiza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inovação ou carácter experimental do projec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bjectivos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escrição dos objectivos gerais e específic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sultados e mudanças pretendidas por estes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do conteúdo dos objectivos a um princípio de realidad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au de adaptação em função das variáveis de gest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servações prév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 projecto de animação sociocultural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orma de exteriorização de ideias, capacidades e interpretações duma situação determinada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o resultado formalizado dum processo de reflexão que permite conhecer e apresentar as opções de intervenção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monstra uma capacidade de previsão e de antecipação a uma situação analisad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É uma ferramenta de gestão e um instrumento de trabalho em equipa que permite organizar a execução e realizar um processo de avaliação  complet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teúdos, orientação e objectivos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revisão da avaliação (Sempere, 2004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da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visão de métodos de avalia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ipos de avaliação e agentes avaliador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 de avaliação do processo e do impacto dos resultad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Grupos envolvid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nálise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lternativ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/actividad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Construção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da matriz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ios de verificaçã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(MEL ou MQL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ssupost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u MP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0" name="Conexão recta unidireccional 6"/>
          <p:cNvCxnSpPr/>
          <p:nvPr/>
        </p:nvCxnSpPr>
        <p:spPr>
          <a:xfrm flipV="1">
            <a:off x="3214800" y="3142800"/>
            <a:ext cx="71496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Conexão recta unidireccional 8"/>
          <p:cNvCxnSpPr/>
          <p:nvPr/>
        </p:nvCxnSpPr>
        <p:spPr>
          <a:xfrm>
            <a:off x="3214440" y="3429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2" name="Conexão recta unidireccional 11"/>
          <p:cNvCxnSpPr/>
          <p:nvPr/>
        </p:nvCxnSpPr>
        <p:spPr>
          <a:xfrm>
            <a:off x="3214440" y="3499920"/>
            <a:ext cx="7866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Conexão recta unidireccional 13"/>
          <p:cNvCxnSpPr/>
          <p:nvPr/>
        </p:nvCxnSpPr>
        <p:spPr>
          <a:xfrm>
            <a:off x="3214440" y="3571920"/>
            <a:ext cx="7866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4" name="Conexão recta unidireccional 17"/>
          <p:cNvCxnSpPr/>
          <p:nvPr/>
        </p:nvCxnSpPr>
        <p:spPr>
          <a:xfrm flipV="1">
            <a:off x="3500280" y="471420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5" name="Conexão recta unidireccional 20"/>
          <p:cNvCxnSpPr/>
          <p:nvPr/>
        </p:nvCxnSpPr>
        <p:spPr>
          <a:xfrm>
            <a:off x="3571560" y="4928760"/>
            <a:ext cx="429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Conexão recta unidireccional 22"/>
          <p:cNvCxnSpPr/>
          <p:nvPr/>
        </p:nvCxnSpPr>
        <p:spPr>
          <a:xfrm>
            <a:off x="3500280" y="5071680"/>
            <a:ext cx="5011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Conexão recta unidireccional 24"/>
          <p:cNvCxnSpPr/>
          <p:nvPr/>
        </p:nvCxnSpPr>
        <p:spPr>
          <a:xfrm>
            <a:off x="3429000" y="5214600"/>
            <a:ext cx="5724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eamento de projectos orientado para objectivos (P.P.O.O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nálise (etapa de identificaçã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Usar, por exemplo, as árvores de problemas e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árvore de objectivos é uma árvore sombra (simétrica) da árvore de problemas; nela estão representadas as situações desejadas (objectivos) relativas a cada uma das situações problemáticas indicadas na árvore de problem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Tem também um objectivo central, objectivos terminais e níveis de objectiv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2560" y="1642680"/>
            <a:ext cx="87152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6600"/>
                </a:solidFill>
                <a:latin typeface="Verdana"/>
              </a:rPr>
              <a:t>Árvore de obje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ângulo 4"/>
          <p:cNvSpPr/>
          <p:nvPr/>
        </p:nvSpPr>
        <p:spPr>
          <a:xfrm>
            <a:off x="1285920" y="3286080"/>
            <a:ext cx="142884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rentabilização do serviço pres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14"/>
          <p:cNvSpPr/>
          <p:nvPr/>
        </p:nvSpPr>
        <p:spPr>
          <a:xfrm>
            <a:off x="4572000" y="1785960"/>
            <a:ext cx="2357280" cy="114300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elhorar o serviço pres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ângulo 16"/>
          <p:cNvSpPr/>
          <p:nvPr/>
        </p:nvSpPr>
        <p:spPr>
          <a:xfrm>
            <a:off x="2928960" y="250020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produtivid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ângulo 18"/>
          <p:cNvSpPr/>
          <p:nvPr/>
        </p:nvSpPr>
        <p:spPr>
          <a:xfrm>
            <a:off x="5929200" y="328608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6" name="Conexão recta unidireccional 26"/>
          <p:cNvCxnSpPr/>
          <p:nvPr/>
        </p:nvCxnSpPr>
        <p:spPr>
          <a:xfrm flipV="1">
            <a:off x="2428920" y="2999880"/>
            <a:ext cx="357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Conexão recta unidireccional 33"/>
          <p:cNvCxnSpPr/>
          <p:nvPr/>
        </p:nvCxnSpPr>
        <p:spPr>
          <a:xfrm flipV="1">
            <a:off x="6071040" y="292860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8" name="Rectângulo 34"/>
          <p:cNvSpPr/>
          <p:nvPr/>
        </p:nvSpPr>
        <p:spPr>
          <a:xfrm>
            <a:off x="1928880" y="4071960"/>
            <a:ext cx="128592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informação  de apoio à ve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ângulo 35"/>
          <p:cNvSpPr/>
          <p:nvPr/>
        </p:nvSpPr>
        <p:spPr>
          <a:xfrm>
            <a:off x="60721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ângulo 36"/>
          <p:cNvSpPr/>
          <p:nvPr/>
        </p:nvSpPr>
        <p:spPr>
          <a:xfrm>
            <a:off x="357120" y="5072040"/>
            <a:ext cx="1285920" cy="928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Reduzir as dificuldades  em implementar a disciplina n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ângulo 37"/>
          <p:cNvSpPr/>
          <p:nvPr/>
        </p:nvSpPr>
        <p:spPr>
          <a:xfrm>
            <a:off x="1785960" y="5072040"/>
            <a:ext cx="1285920" cy="714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senvolver o perfil da chef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Conexão recta unidireccional 39"/>
          <p:cNvCxnSpPr/>
          <p:nvPr/>
        </p:nvCxnSpPr>
        <p:spPr>
          <a:xfrm flipV="1">
            <a:off x="4142880" y="2214000"/>
            <a:ext cx="3582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Rectângulo 42"/>
          <p:cNvSpPr/>
          <p:nvPr/>
        </p:nvSpPr>
        <p:spPr>
          <a:xfrm>
            <a:off x="7429680" y="4857840"/>
            <a:ext cx="128556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ângulo 43"/>
          <p:cNvSpPr/>
          <p:nvPr/>
        </p:nvSpPr>
        <p:spPr>
          <a:xfrm>
            <a:off x="4714920" y="4857840"/>
            <a:ext cx="1285920" cy="4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Conexão recta unidireccional 60"/>
          <p:cNvCxnSpPr/>
          <p:nvPr/>
        </p:nvCxnSpPr>
        <p:spPr>
          <a:xfrm flipH="1" flipV="1">
            <a:off x="73576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6" name="Conexão recta unidireccional 62"/>
          <p:cNvCxnSpPr/>
          <p:nvPr/>
        </p:nvCxnSpPr>
        <p:spPr>
          <a:xfrm flipH="1" flipV="1">
            <a:off x="1571040" y="4642560"/>
            <a:ext cx="5007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Conexão recta unidireccional 64"/>
          <p:cNvCxnSpPr/>
          <p:nvPr/>
        </p:nvCxnSpPr>
        <p:spPr>
          <a:xfrm flipV="1">
            <a:off x="2428920" y="38570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Conexão recta unidireccional 66"/>
          <p:cNvCxnSpPr/>
          <p:nvPr/>
        </p:nvCxnSpPr>
        <p:spPr>
          <a:xfrm flipV="1">
            <a:off x="1284840" y="464256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9" name="Rectângulo 44"/>
          <p:cNvSpPr/>
          <p:nvPr/>
        </p:nvSpPr>
        <p:spPr>
          <a:xfrm>
            <a:off x="3000240" y="3286080"/>
            <a:ext cx="1285920" cy="571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umentar a motivação para o trabal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Conexão recta unidireccional 64"/>
          <p:cNvCxnSpPr/>
          <p:nvPr/>
        </p:nvCxnSpPr>
        <p:spPr>
          <a:xfrm flipV="1">
            <a:off x="3642120" y="29998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1" name="Rectângulo 46"/>
          <p:cNvSpPr/>
          <p:nvPr/>
        </p:nvSpPr>
        <p:spPr>
          <a:xfrm>
            <a:off x="214200" y="4071960"/>
            <a:ext cx="1500480" cy="571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elhorar a organização dos recursos hum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2" name="Conexão recta unidireccional 66"/>
          <p:cNvCxnSpPr/>
          <p:nvPr/>
        </p:nvCxnSpPr>
        <p:spPr>
          <a:xfrm flipV="1">
            <a:off x="857160" y="3642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3" name="Rectângulo 50"/>
          <p:cNvSpPr/>
          <p:nvPr/>
        </p:nvSpPr>
        <p:spPr>
          <a:xfrm>
            <a:off x="47149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ângulo 51"/>
          <p:cNvSpPr/>
          <p:nvPr/>
        </p:nvSpPr>
        <p:spPr>
          <a:xfrm>
            <a:off x="6072120" y="4071960"/>
            <a:ext cx="128592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ângulo 52"/>
          <p:cNvSpPr/>
          <p:nvPr/>
        </p:nvSpPr>
        <p:spPr>
          <a:xfrm>
            <a:off x="7429680" y="4071960"/>
            <a:ext cx="1285560" cy="428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" name="Conexão recta unidireccional 64"/>
          <p:cNvCxnSpPr/>
          <p:nvPr/>
        </p:nvCxnSpPr>
        <p:spPr>
          <a:xfrm flipV="1">
            <a:off x="5572080" y="371412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Conexão recta unidireccional 64"/>
          <p:cNvCxnSpPr/>
          <p:nvPr/>
        </p:nvCxnSpPr>
        <p:spPr>
          <a:xfrm flipV="1">
            <a:off x="6642720" y="37857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Conexão recta unidireccional 60"/>
          <p:cNvCxnSpPr/>
          <p:nvPr/>
        </p:nvCxnSpPr>
        <p:spPr>
          <a:xfrm flipH="1" flipV="1">
            <a:off x="7286040" y="3785760"/>
            <a:ext cx="286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Conexão recta unidireccional 64"/>
          <p:cNvCxnSpPr/>
          <p:nvPr/>
        </p:nvCxnSpPr>
        <p:spPr>
          <a:xfrm flipV="1">
            <a:off x="6714000" y="4571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Conexão recta unidireccional 64"/>
          <p:cNvCxnSpPr/>
          <p:nvPr/>
        </p:nvCxnSpPr>
        <p:spPr>
          <a:xfrm flipV="1">
            <a:off x="5786280" y="4571280"/>
            <a:ext cx="2865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"/>
          <p:cNvSpPr/>
          <p:nvPr/>
        </p:nvSpPr>
        <p:spPr>
          <a:xfrm>
            <a:off x="711360" y="387360"/>
            <a:ext cx="812772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Uma árvore de problemas complex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ixo nív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 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19320" y="1324080"/>
            <a:ext cx="17190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5087880" y="1324080"/>
            <a:ext cx="2328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minui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s 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s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insufic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à criação de no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"/>
          <p:cNvSpPr/>
          <p:nvPr/>
        </p:nvSpPr>
        <p:spPr>
          <a:xfrm>
            <a:off x="947880" y="387360"/>
            <a:ext cx="6638760" cy="70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 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mento 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nd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 cap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tores tradic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 economia lo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nvert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439560" y="387360"/>
            <a:ext cx="8061480" cy="808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vore de objectivos (apó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zação e definição da estratégia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3056040" y="2114640"/>
            <a:ext cx="1609560" cy="62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umento d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328760" y="1324080"/>
            <a:ext cx="1609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íquid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pre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087880" y="1324080"/>
            <a:ext cx="2125800" cy="7286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117440" y="2847960"/>
            <a:ext cx="1913040" cy="73044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782960" y="2805120"/>
            <a:ext cx="191484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oio à criaçã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vas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1836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407196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291280" y="3749760"/>
            <a:ext cx="79668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6408720" y="374976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836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407196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6408720" y="4699080"/>
            <a:ext cx="797040" cy="466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59007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6815160" y="5491080"/>
            <a:ext cx="797040" cy="465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2946240" y="1687680"/>
            <a:ext cx="50832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7"/>
          <p:cNvSpPr/>
          <p:nvPr/>
        </p:nvSpPr>
        <p:spPr>
          <a:xfrm flipH="1">
            <a:off x="4062240" y="1741320"/>
            <a:ext cx="1019520" cy="36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18"/>
          <p:cNvSpPr/>
          <p:nvPr/>
        </p:nvSpPr>
        <p:spPr>
          <a:xfrm flipV="1">
            <a:off x="2031840" y="2425320"/>
            <a:ext cx="101628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9"/>
          <p:cNvSpPr/>
          <p:nvPr/>
        </p:nvSpPr>
        <p:spPr>
          <a:xfrm>
            <a:off x="4673520" y="2373480"/>
            <a:ext cx="1117800" cy="42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20"/>
          <p:cNvSpPr/>
          <p:nvPr/>
        </p:nvSpPr>
        <p:spPr>
          <a:xfrm>
            <a:off x="2031840" y="35877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21"/>
          <p:cNvSpPr/>
          <p:nvPr/>
        </p:nvSpPr>
        <p:spPr>
          <a:xfrm>
            <a:off x="2133720" y="3587760"/>
            <a:ext cx="144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22"/>
          <p:cNvSpPr/>
          <p:nvPr/>
        </p:nvSpPr>
        <p:spPr>
          <a:xfrm>
            <a:off x="5689440" y="3533760"/>
            <a:ext cx="1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23"/>
          <p:cNvSpPr/>
          <p:nvPr/>
        </p:nvSpPr>
        <p:spPr>
          <a:xfrm flipH="1">
            <a:off x="4671720" y="3533760"/>
            <a:ext cx="3078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4"/>
          <p:cNvSpPr/>
          <p:nvPr/>
        </p:nvSpPr>
        <p:spPr>
          <a:xfrm>
            <a:off x="6400800" y="3533760"/>
            <a:ext cx="406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5"/>
          <p:cNvSpPr/>
          <p:nvPr/>
        </p:nvSpPr>
        <p:spPr>
          <a:xfrm>
            <a:off x="2235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6"/>
          <p:cNvSpPr/>
          <p:nvPr/>
        </p:nvSpPr>
        <p:spPr>
          <a:xfrm>
            <a:off x="2641680" y="4219560"/>
            <a:ext cx="182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6807240" y="42195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8"/>
          <p:cNvSpPr/>
          <p:nvPr/>
        </p:nvSpPr>
        <p:spPr>
          <a:xfrm flipH="1">
            <a:off x="6297480" y="5170320"/>
            <a:ext cx="3081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29"/>
          <p:cNvSpPr/>
          <p:nvPr/>
        </p:nvSpPr>
        <p:spPr>
          <a:xfrm>
            <a:off x="6807240" y="5170320"/>
            <a:ext cx="609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Uma vez concluída com sucesso a fase de diagnóstico, com o desenvolvimento de objectivos gerais e específicos, a utilização da matriz do enquadramento lógico assegura um plano coerente e transparente que já incorpora os indicadores para a monitorização e a avaliação, tendo também em consideração o ambiente externo do projecto. È também uma visualização conveniente da estrutura interna do projecto (Schiefer </a:t>
            </a:r>
            <a:r>
              <a:rPr b="0" i="1" lang="pt-PT" sz="18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, 2006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4725360" y="2008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i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3186000" y="22305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4721040" y="2230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65"/>
          <p:cNvSpPr/>
          <p:nvPr/>
        </p:nvSpPr>
        <p:spPr>
          <a:xfrm>
            <a:off x="3143160" y="4786200"/>
            <a:ext cx="14986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400" spc="-1" strike="noStrike">
                <a:solidFill>
                  <a:srgbClr val="0d0d0d"/>
                </a:solidFill>
                <a:latin typeface="Arial"/>
              </a:rPr>
              <a:t>Orç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BJECTIVO GERAL OU FINALIDADE (de desenvolvimento ou global): o objectivo a longo prazo para o qual o projecto vai contribuir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BJECTIVOS ESPECÍFICOS (imediatos): a alteração ou as alterações que o projecto vai promover se for implementado com êxi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vem ser específicos, mensuráveis, precisos, realistas e alcançáveis no temp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m-se usando verbos claros e concludentes, no infinito: “Aumentar a capacidade técnica das estruturas de apoio à criação de PME’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onto de partida refere-se às condições encontradas no início da elaboração do project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É preciso estudar em pormenor o conjunto de situações que motivaram e influíram na tomada de consciência da necessidade duma interven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vem analisar-se os condicionalismos positivos e negativos do ambiente envolvent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SULTADOS OU METAS: são o produto directo, tangível e específico das actividades do programa ou projecto; não se deve confundir resultados com objectiv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Uma rede descentralizada de ninhos de empresas estabelecida e plenamente operacional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CTIVIDADES: Tarefas que, passo a passo, há que efectuar para produzir os resultados; não se deve confundir actividades com resultado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Efectuar os estudos de viabilidade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CURSOS: Meios necessários e suficientes para implementar as actividades do programa ou projecto; Incluem recursos humanos e institucionais, equipamento, materiais, fundos de investimento, etc.; Não se deve confundir com o orçamen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 critérios de êxito (realísticos e mensuráveis) que permitirão a monitorização e avaliação dos resultados do project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Formulação aconselhada: “Pelo menos 30% de desempregados encontraram trabalho nas PME’s criadas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INDICADORE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OUTPUT (BENS E SERVIÇOS IMEDIATOS CRIADOS PELO PROJECT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RESULTADOS (MUDANÇAS ESPERADAS DENTRO DO GRUPO ALVO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MPACTE (INFLUÊNCIA SUSTENTÁVEL QUE SE ESPERA DO PROJECTO SOBRE O AMBIENTE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PROCESSO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DE INPUT (RECURSOS USADOS PELO PROJECTO)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EIOS DE VERIFICAÇÃO: fontes de informação/ métodos para verificar os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tudo do Censo de desempregados do município e da delegação local do Ministério do Trabalho”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 (Programa DelNet - CIF/OIT / A.Vidal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FACTORES EXTERNOS (PRESSUPOSTOS / HIPÓTESES/ RISCOS)</a:t>
            </a:r>
            <a:r>
              <a:rPr b="0" lang="ar-SA" sz="15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: situações, acontecimentos, condições, decisões, etc. que é necessário que ocorram para que o projecto tenha êxito, mas que estão fora do controle do próprio project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1200" spc="-1" strike="noStrike">
                <a:solidFill>
                  <a:srgbClr val="000000"/>
                </a:solidFill>
                <a:latin typeface="Verdana"/>
              </a:rPr>
              <a:t>A tendência para a estabilização das taxas de juro confirma-se durante o período de implementação do programa ou projecto” (Programa DelNet - CIF/OIT / A.Vidal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DOIS MODOS DE LEITUR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ÓGICA VERTICAL (DE INTERVENÇÃO DO PROJECTO)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: explica o projecto (a sua concepção básica) e as razões porque é efectuado; objectivo geral e específicos, resultados, actividades e recurs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LÓGICA HORIZONTAL: avalia o grau de sucesso do projecto com uma série de provas objectivas e analíticas; indicadores (quanto?, quando?, o quê?), meios de verificação e factores externos (pressupost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1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287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Black"/>
              </a:rPr>
              <a:t>(de desenvolvimento ou global)</a:t>
            </a:r>
            <a:r>
              <a:rPr b="0" lang="ar-SA" sz="12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4859280" y="2502000"/>
            <a:ext cx="3591000" cy="428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bjectivo(s) específic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ou imediato(s)</a:t>
            </a:r>
            <a:r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77920" y="3719520"/>
            <a:ext cx="350676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bjectivo geral 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 longo praz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tribuirá para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876920" y="3719520"/>
            <a:ext cx="3759120" cy="1316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Reflecte a(s) mudança(s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que o projecto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Black"/>
              </a:rPr>
              <a:t>espera alcança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O projecto conseguirá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6400800" y="2954160"/>
            <a:ext cx="144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 flipH="1">
            <a:off x="3787560" y="4430880"/>
            <a:ext cx="1060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930320" y="2954160"/>
            <a:ext cx="1800" cy="73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"/>
          <p:cNvSpPr/>
          <p:nvPr/>
        </p:nvSpPr>
        <p:spPr>
          <a:xfrm>
            <a:off x="3962520" y="4430880"/>
            <a:ext cx="144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03360" y="2290680"/>
            <a:ext cx="20444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144360" y="3762360"/>
            <a:ext cx="2452680" cy="225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rodu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gerados pe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do 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Produz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1523880" y="2743200"/>
            <a:ext cx="1800" cy="1001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3649680" y="2290680"/>
            <a:ext cx="204624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6599160" y="2290680"/>
            <a:ext cx="2044800" cy="428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3352680" y="3798720"/>
            <a:ext cx="2452680" cy="21974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cções a se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alizadas 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lcançar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Faz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6502320" y="3798720"/>
            <a:ext cx="2451240" cy="222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Recursos humano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écnicos e materia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necessá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 sufici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ara execu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as activ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Black"/>
              </a:rPr>
              <a:t>Disponibiliz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2617920" y="4273560"/>
            <a:ext cx="6508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5872320" y="4273560"/>
            <a:ext cx="649080" cy="1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467352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7518240" y="2795760"/>
            <a:ext cx="1800" cy="100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642960" y="387360"/>
            <a:ext cx="7688160" cy="86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rutura lógica de um projecto (II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Marcador de Posição da Data 1"/>
          <p:cNvSpPr/>
          <p:nvPr/>
        </p:nvSpPr>
        <p:spPr>
          <a:xfrm>
            <a:off x="609480" y="6245280"/>
            <a:ext cx="246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daptado de Schiefer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3"/>
          <p:cNvSpPr/>
          <p:nvPr/>
        </p:nvSpPr>
        <p:spPr>
          <a:xfrm>
            <a:off x="6286680" y="471492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resultad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9" name="Conexão recta unidireccional 101"/>
          <p:cNvCxnSpPr/>
          <p:nvPr/>
        </p:nvCxnSpPr>
        <p:spPr>
          <a:xfrm>
            <a:off x="3429000" y="4928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0" name="Conexão recta unidireccional 102"/>
          <p:cNvCxnSpPr/>
          <p:nvPr/>
        </p:nvCxnSpPr>
        <p:spPr>
          <a:xfrm>
            <a:off x="3429000" y="4500720"/>
            <a:ext cx="2572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1" name="Conexão recta unidireccional 103"/>
          <p:cNvCxnSpPr/>
          <p:nvPr/>
        </p:nvCxnSpPr>
        <p:spPr>
          <a:xfrm>
            <a:off x="3429000" y="3785760"/>
            <a:ext cx="2572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Rectangle 13"/>
          <p:cNvSpPr/>
          <p:nvPr/>
        </p:nvSpPr>
        <p:spPr>
          <a:xfrm>
            <a:off x="6286680" y="4286160"/>
            <a:ext cx="20714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s objectivos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6286680" y="3571920"/>
            <a:ext cx="207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supostos para a concretização do objectivo geral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4" name="Conexão recta unidireccional 107"/>
          <p:cNvCxnSpPr/>
          <p:nvPr/>
        </p:nvCxnSpPr>
        <p:spPr>
          <a:xfrm flipH="1" flipV="1">
            <a:off x="3357000" y="4571640"/>
            <a:ext cx="2572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Conexão recta unidireccional 108"/>
          <p:cNvCxnSpPr/>
          <p:nvPr/>
        </p:nvCxnSpPr>
        <p:spPr>
          <a:xfrm flipH="1" flipV="1">
            <a:off x="3357360" y="3857040"/>
            <a:ext cx="264384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Conexão recta unidireccional 111"/>
          <p:cNvCxnSpPr/>
          <p:nvPr/>
        </p:nvCxnSpPr>
        <p:spPr>
          <a:xfrm flipH="1" flipV="1">
            <a:off x="3285360" y="2856960"/>
            <a:ext cx="2715480" cy="85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eamento de projectos orientado para objectivos (PPO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atriz de enquadramento/quadro lógico 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(MEL/MQL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Relação entre pressupostos, objectivos, resultados e actividad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As actividades apenas irão conduzir aos resultados pretendidos se o permitirem os pressupostos; as actividades somadas aos pressupostos dos resultados satisfeitos (de nível superior) conduzem aos resultad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s resultados somados aos pressupostos satisfeitos conduzem à concretização dos objectivos específico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265752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O objectivo específico do projecto somado aos pressupostos satisfeitos contribui para o objectivo ger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Correspondem aos resultados visados em termos de estado que se pretende atingir pela implementação do project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ertinente, adequando-se às situações que suscitaram a intervençã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Preciso, contendo em si a exactidão do percurso a efectuar e definindo o novo estado pretendid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Realizável, não sendo um objectivo demasiadamente ambicioso, sem hipóteses de ser alcançad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Mensurável, fornecendo a possibilidade de uma correcta avaliação posterio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6760" y="1785600"/>
            <a:ext cx="800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ses iniciais/bases contextuais/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nto de partida, antecedentes, aspectos contextuais e situação interna da organiz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jecto não se pode conceber à margem da realidade da organização que o vai desenvolver; é necessário detectar os limites e as possibilidades desta para adequar o projecto à sua realidade e ponderar os conteúdos, os objectivos e as prioridades da intervenção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 processo de análise interna da organização permite-nos definir os pontos fortes e fracos dessa organização, e a tê-los em conta na elaboração, gestão e avaliação do proj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strutura de um Objectivo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natureza da situação desejad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s critérios de sucesso ou de fracass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população alv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A zona de aplicação do project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O tempo em que deverá ser atingid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Exemplo: Reduzir a taxa de mortalidade específica por acidentes por veículos a motor (elemento 1) para 15 por 10000 (elemento 2), no grupo etário dos 0 a 25 anos (elemento 3), no Distrito de Beja (elemento 4), até ao ano 2010 (elemento 5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s objectivos devem ser interdependentes e sequenciais (hierarquizados). Uma boa hierarquização dos objectivos integra a formulação de objectivos gerais e de objectivos específicos (Cristovão e Silva, 2003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 Geral (Cristovão e Silva, 2003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duzir em 50% a taxa de mortalidade específica por acidentes por veículos a motor, na população com menos de 25 anos, no Distrito de Beja, até 2010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Exemplo de Objectivos Específicos associa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1.- Até 2010, 100% dos automobilistas do Distrito de Beja com menos de 25 anos, deverão ter sido submetidos a uma acção de formação sobre a prevenção rodoviár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2.- Até 2007, 100% dos pontos negros das estradas do Distrito de Beja deverão estar providos de sinalização adequada, referenciando a existência de perig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3.- Até 2005, 50% dos pais dos jovens com menos de 18 anos, deverão ter sido submetidos a acções de educação sobre a necessidade de instruírem os filhos sobre normas de segurança rodoviári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jectivos e Indicado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Natureza dos objectivos e indicador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recurs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: tudo o que se refere a produtos e serviç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mpacte: tudo o que identifica impactes (influência sustentável sobre o ambiente) da interven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ve procurar-se sempre definir objectivos de impacte; se tal não for possível deve-se então definir objectivos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; se tal também for impossível os objectivos a definir serão de </a:t>
            </a:r>
            <a:r>
              <a:rPr b="0" i="1" lang="pt-PT" sz="13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écnica de hierarquização das prioridades de intervenção; é um método de grande simplicidade e utilidade em termos de visualização, fundamentando-se em dois critérios de qualificação e priorização de problemas ou necessidade de intervenção: importância e urgênci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É uma forma possível de dar um passo intermédio na transformação de problemas em objectiv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necessitam de atenção imediata (os que são importantes e urgentes) são colocados no quadrante superior direito (prioridade 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odelo Eisenhower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que são importantes mas não urgentes são colocados no quadrante superior esquerdo (prioridade II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Nos quadrantes inferiores colocam-se os problemas menos importantes e que não afectam nem põem em causa o projecto; estes problemas podem ser deixados de lado na formulação de objectivos gerais e específicos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66280" y="1643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Estabelecimento de prioridades (outros métodos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19232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delo Eisenhower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ângulo 3"/>
          <p:cNvSpPr/>
          <p:nvPr/>
        </p:nvSpPr>
        <p:spPr>
          <a:xfrm>
            <a:off x="714240" y="2714760"/>
            <a:ext cx="7715520" cy="32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ângulo 4"/>
          <p:cNvSpPr/>
          <p:nvPr/>
        </p:nvSpPr>
        <p:spPr>
          <a:xfrm>
            <a:off x="178596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ângulo 7"/>
          <p:cNvSpPr/>
          <p:nvPr/>
        </p:nvSpPr>
        <p:spPr>
          <a:xfrm>
            <a:off x="4857840" y="292896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ângulo 8"/>
          <p:cNvSpPr/>
          <p:nvPr/>
        </p:nvSpPr>
        <p:spPr>
          <a:xfrm>
            <a:off x="785880" y="2786040"/>
            <a:ext cx="857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ângulo 10"/>
          <p:cNvSpPr/>
          <p:nvPr/>
        </p:nvSpPr>
        <p:spPr>
          <a:xfrm>
            <a:off x="178596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A negligenc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ângulo 11"/>
          <p:cNvSpPr/>
          <p:nvPr/>
        </p:nvSpPr>
        <p:spPr>
          <a:xfrm>
            <a:off x="4857840" y="4214880"/>
            <a:ext cx="28573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Prio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ângulo 12"/>
          <p:cNvSpPr/>
          <p:nvPr/>
        </p:nvSpPr>
        <p:spPr>
          <a:xfrm rot="16200000">
            <a:off x="500040" y="4071960"/>
            <a:ext cx="15004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Importâ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ângulo 14"/>
          <p:cNvSpPr/>
          <p:nvPr/>
        </p:nvSpPr>
        <p:spPr>
          <a:xfrm>
            <a:off x="857160" y="5500800"/>
            <a:ext cx="9288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Reduzi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3" name="Conexão recta unidireccional 16"/>
          <p:cNvCxnSpPr/>
          <p:nvPr/>
        </p:nvCxnSpPr>
        <p:spPr>
          <a:xfrm flipV="1">
            <a:off x="1498680" y="2928240"/>
            <a:ext cx="2160" cy="24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Conexão recta unidireccional 18"/>
          <p:cNvCxnSpPr/>
          <p:nvPr/>
        </p:nvCxnSpPr>
        <p:spPr>
          <a:xfrm>
            <a:off x="1857240" y="5500800"/>
            <a:ext cx="578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5" name="Rectângulo 21"/>
          <p:cNvSpPr/>
          <p:nvPr/>
        </p:nvSpPr>
        <p:spPr>
          <a:xfrm>
            <a:off x="7572240" y="5572080"/>
            <a:ext cx="785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200" spc="-1" strike="noStrike">
                <a:solidFill>
                  <a:srgbClr val="0d0d0d"/>
                </a:solidFill>
                <a:latin typeface="Arial"/>
              </a:rPr>
              <a:t>Ele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ângulo 22"/>
          <p:cNvSpPr/>
          <p:nvPr/>
        </p:nvSpPr>
        <p:spPr>
          <a:xfrm>
            <a:off x="4214880" y="5572080"/>
            <a:ext cx="1143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d0d0d"/>
                </a:solidFill>
                <a:latin typeface="Arial"/>
              </a:rPr>
              <a:t>Urgê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Estabelecimento de prior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relha de priorização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abela de dupla entrada onde os problemas são hierarquizados de acordo com alguns critérios seleccionad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ses critérios incluem a importância e a urgência e outros como os recursos disponíveis, a sensibilidade dos técnicos e dirigentes à sua erradicação ou a importância que eles têm para o grupo alv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Começa-se por seleccionar os critérios de priorização e estabelecer a relevância de cada um deles (factor de ponderação); em seguida, cada um dos problemas identificados é classificado numa escala de 1 a 5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s problemas mais pontuados são aqueles que são prioritários para o project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Grelha de priorização (Schiefer </a:t>
            </a:r>
            <a:r>
              <a:rPr b="0" i="1" lang="en-GB" sz="1800" spc="-1" strike="noStrike">
                <a:solidFill>
                  <a:srgbClr val="006600"/>
                </a:solidFill>
                <a:latin typeface="Verdana"/>
              </a:rPr>
              <a:t>et al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, 2006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71680" y="2571840"/>
          <a:ext cx="8001000" cy="3062160"/>
        </p:xfrm>
        <a:graphic>
          <a:graphicData uri="http://schemas.openxmlformats.org/drawingml/2006/table">
            <a:tbl>
              <a:tblPr/>
              <a:tblGrid>
                <a:gridCol w="1143000"/>
                <a:gridCol w="1428480"/>
                <a:gridCol w="428760"/>
                <a:gridCol w="1571760"/>
                <a:gridCol w="428400"/>
                <a:gridCol w="1571760"/>
                <a:gridCol w="428400"/>
                <a:gridCol w="10004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itérios de prioriz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ortâ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rgência (4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existentes (20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édia ponder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4-17T15:14:01Z</dcterms:modified>
  <cp:revision>524</cp:revision>
  <dc:subject/>
  <dc:title>Introdução às Políticas Agrárias</dc:title>
</cp:coreProperties>
</file>